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29C-3A39-40B1-B82E-6128227C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F62-446F-4217-9900-DC908BB8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E0E-8016-4118-9B7C-98F11277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41A-CE8F-4141-87F0-DBF775AD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1D959-812A-43BE-8F98-BDAC8AEF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15D10-5100-4F46-8704-E7458173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16994-0364-4758-9EA2-D7F4B49B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8F337-C839-4F9F-BD78-3A234340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9705C-C664-437C-B690-1788AC34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F8CF8-1270-49A8-AFE6-75D55BA0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0B187-EC1F-4AF8-BC00-18B94355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588-B5C6-4C9F-AA43-B83E7395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7DF67-FF4C-470B-9D77-4458BBA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21A5D-2114-43AF-8560-A938515C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2F157-1E2B-4B68-B214-C4524B59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6F023-FDFD-4DB3-B561-13C232EA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1E74C-A4A7-4FD6-9617-C18CE066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649-F196-415C-804E-DD60E829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641-AABF-4457-AAD7-A6A9EE82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2F3-D3B9-492B-A221-BD5B55B8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248-EF67-47A2-A9E8-B5DDEB2D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4CC-1AC1-436D-9146-C66D8B68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C03-6EB2-4F02-BEF4-62C6044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069-51BC-493F-9254-55F3166A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8116-29A4-4AA9-9F76-D8E8C82D7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935D-1FA1-4998-8478-131AA9F54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8.wm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ex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81480" y="4191120"/>
            <a:ext cx="1420920" cy="1800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191120" y="4191120"/>
            <a:ext cx="761760" cy="1884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914400" y="4343400"/>
            <a:ext cx="1816200" cy="1670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705720" y="4114800"/>
            <a:ext cx="1785960" cy="1814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781680" y="205740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121932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a big U.F.O on the moon.     And a giant Alien came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4920" y="5187960"/>
            <a:ext cx="1815840" cy="1670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43600" y="4973760"/>
            <a:ext cx="762120" cy="1884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1420560" cy="18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941400" cy="70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9051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7349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slimy and green. It had bone crushing teeth. The Alien floated away to the sun. And d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3:08Z</dcterms:created>
  <dc:creator>student</dc:creator>
  <dc:description/>
  <dc:language>en-US</dc:language>
  <cp:lastModifiedBy>student</cp:lastModifiedBy>
  <dcterms:modified xsi:type="dcterms:W3CDTF">2010-10-25T18:18:00Z</dcterms:modified>
  <cp:revision>10</cp:revision>
  <dc:subject/>
  <dc:title>Alex</dc:title>
</cp:coreProperties>
</file>